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2726-F6D4-4F38-A281-7E9FE34A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1F2-8099-4E8F-9E68-096F859F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955E-8232-4278-872B-4E4265BA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016C-9E35-4A42-BCAB-E0FA0E32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6EF9-9B27-40F9-B0D7-0030DDDF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BB78-5385-46D1-BFAB-2C13438D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A5D9-0CBB-4C6E-B788-1515F455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D456-4483-4421-9C49-9C962B76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8708-90B8-4274-9937-EC995D3B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F8D4-B03A-4F91-912E-AF4CCB7E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ECE7-DD19-4FE8-886E-6AB0709E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8DC-65A7-4AC4-BD36-8416DF50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E725-D398-4B03-900D-DBD5E824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81C8-8D89-4900-83F5-8A8B9040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A748-66BE-430F-B61E-565CC940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304B-A9F0-4C8C-9B59-7A5F1409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DC87-04BB-4C1B-B64F-DEE9A2EC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DC1-8F2A-42F8-8B0E-D984ED3D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81D1-3ED8-42AF-B031-8D180A8B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62F4-ED49-4522-B734-6EB38351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3CD4-26F9-4057-8721-3A7FC85E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480F-4CF3-468F-B498-48564B21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B43-4E93-45E5-BAB1-F38707E2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0760-2AFB-4ED3-A4F6-F54D864A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94E0-2FDD-404E-92EB-C2ACDA772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9238-BB4F-487A-A963-5BB9F8EE809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-8128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三章  保险营销管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传统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代理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代理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代理人的业务范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代理人的法律特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保险代理人营销的优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经纪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经纪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经纪人的职业操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经纪人的业务运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创新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电话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电话营销的优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电话营销的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互联网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互联网营销的优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大大降低了展业成本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增加了新的销售机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利于提高保险服务质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网络营销的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法律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银行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银行保险的产生和发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银行保险的合作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作协议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资公司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建立金融服务集团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金融服务集团的经营模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大数据和互联网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中的大数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中大数据技术是基于对海量数据进行分析，从不同维度和深度挖掘保险应用特性，进而优化保险价值链条的各个环节。其中精准营销和精准定价以及反欺诈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大数据在精准营销中的作用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精准获取新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持续转化准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减少退保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互联网保险的定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广义定义：互联网保险业务是指保险机构依托互联网和移动通信等技术，通过自营网络平台、第三方网络平台等开展保险业务、提供保险服务的保险经营活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狭义定义：互联网保险是指基于互联网、大数据、云数据等信息技术手段，从保险产品设计、风险管理和保险信息咨询到投保、核保、保全、理赔和给付等保险全过程互联网化的保险经营活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互联网保险参与的主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开展互联网保险业务的传统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互联网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电子商务平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中介平台。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一节   保险营销的概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营销  保险代理人  保险经纪人   互联网营销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营销的宏观环境因素和微观环境因素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纪人的业务运作主要包括哪些方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新险种开发的主要步骤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新险种开发时如何优化险种组合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电话营销？它有什么优缺点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哪些优点？存在哪些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的合作方式有哪些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什么是互联网保险（狭义）？我国互联网保险参与主体有哪些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营销的概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营销的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P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产品、价格、分销渠道和促销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营销的发展阶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产品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销售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市场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营销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宏观环境分析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微观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投保人行为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节    保险新险种的开发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、保险新险种的界定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新险种是指整体险种或其中的一部分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所创新或改革，能够给保险消费者带来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利益和满足的险种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二、保险新险种开发的步骤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险种开发的程序包括构思的形成、构思的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选、市场分析、开发设计、试销过程和商品化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步骤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三、保险新险种开发的策略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目标市场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产品组合策略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险种质量优化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29:14Z</dcterms:modified>
  <cp:revision>24</cp:revision>
  <dc:subject/>
  <dc:title>没有幻灯片标题</dc:title>
</cp:coreProperties>
</file>